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0410-1DB5-4950-A14F-DE4794B0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FE5A-BF99-490B-AE29-575D19FD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0117-264A-47DE-8A1E-668E97CF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FF0D-BC29-46F0-908C-7E29A3A8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80DF-19CC-4B1C-A210-35E7DE37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3362-B313-42A5-8F49-DA7622C7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FEFB-78CC-46E6-B23D-C3E9F4B8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1313-62E2-468F-BC38-C19CF0DA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9C53-AA66-4462-8E7A-C0AE9C7E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FAF5-8F98-4FA7-9478-663F5EE5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D592-ACC2-4B5F-8355-61A504FE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D0DB-EFD1-4E32-AAB5-990C71B8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C249-2BC4-4990-A8D3-E9D07D45C4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alem Witchcraft Trials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Family Life would have been like in Salem, Massachusetts in 16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alem Witchcraft Trial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ies had a rough time providing for their children and even the adults at ti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ade their own clo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planted their own food, such as veget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raised their own meat al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0" y="4800600"/>
            <a:ext cx="1787400" cy="176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alem Witchcraft Trial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were under very strict ru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as considered sinning to express any emotion such as sadness or an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ying was rare, and on the Sabbath a sin! Also, looking at yourself in a mirror is a s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alem Witchcraft Trial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ys had a few advantages that girls did no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ould fish and hunt, and the girls had to stay home and learn to cook and clean with the wo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27800" y="4091040"/>
            <a:ext cx="1388880" cy="184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alem Witchcraft Trial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hildren learned to read and wri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the children had more, but almost all of them only had a Bible as far as books 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62720" y="4343400"/>
            <a:ext cx="1855800" cy="122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alem Witchcraft Trials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onclusion, the Salem Witchcraft Trials was a hard time for many people. Kids especially!! Consider yourself lucky, for if you were put to trial would you be guilty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innoc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4:17:26Z</dcterms:created>
  <dc:creator>GACS</dc:creator>
  <dc:description/>
  <dc:language>en-US</dc:language>
  <cp:lastModifiedBy>GACS</cp:lastModifiedBy>
  <dcterms:modified xsi:type="dcterms:W3CDTF">2008-10-10T14:38:33Z</dcterms:modified>
  <cp:revision>2</cp:revision>
  <dc:subject/>
  <dc:title>Salem Witchcraft Trials  </dc:title>
</cp:coreProperties>
</file>